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36D-9003-462B-9699-FC0C94D8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E8E-51C3-49BD-B9C6-F358775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BA9-56F7-4B00-BCC1-65F5E509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DD2-E8B1-4F31-93AD-8E3390C0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0B0D-C182-480F-95C5-3F732E01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2E96-E81C-46BC-B726-CBF5C861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5A93-896D-4F87-836F-EDCD1764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ACE5-02E7-4973-9F96-9293E3A7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A601-81A4-4182-BA27-320768CB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802D-AABE-4D6B-AE9F-5CB80DA6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6DFD-F0B3-4356-ADA4-2A1B72C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EFC-D48F-44BF-AF3E-DC53A6D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5055-B804-4AD6-8B5E-E8E1C9B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24E8-F93A-4EB2-8BB2-FE77469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DA7B-7D42-4B51-9FFB-F8D07DEF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1507-67BB-49DC-AC96-AA5381C3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1D39-1B9C-4007-87EE-26CEA32D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A21-4077-404B-807D-77FA591F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DAD-920B-4D51-A6E2-D966DA8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A1E-69ED-4E86-B0E1-98DB06BE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88B-80E2-4CA6-ACA2-ACF2C088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3D3-D561-41FE-85A2-8403B16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BA1-E8B3-41B5-B63C-6AEDC8E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135-DC95-41B5-AEDB-CB8E70B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3960" y="523800"/>
            <a:ext cx="438120" cy="5446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6640" y="523800"/>
            <a:ext cx="328680" cy="54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7800" y="946080"/>
            <a:ext cx="422280" cy="544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47880" y="946080"/>
            <a:ext cx="368280" cy="54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3440" y="873000"/>
            <a:ext cx="560520" cy="484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8480" y="415800"/>
            <a:ext cx="31680" cy="12081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9520" y="1206360"/>
            <a:ext cx="822636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1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21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FF3-061F-421C-9298-3E9974389B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E631-59F9-4A28-A026-9477021EF4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920" y="810720"/>
            <a:ext cx="709128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anel on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Web Services Security</a:t>
            </a:r>
            <a:br>
              <a:rPr sz="48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ASSIS’0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79320" y="3579840"/>
            <a:ext cx="6530760" cy="28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co Cremonini, University of Mi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édric Fournet, Microsoft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dy Gordon, Microsoft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l Kearney, BT La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k O’Neill, Vor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rgit Pfitzmann, IBM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Sorry Tale of Alan Rals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3692520"/>
            <a:ext cx="7812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v’02: ex-con bankrupt, turned spam millionaire, Alan Ralsky, 57, gives gloating interview, “sends a billion emails per da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days, Net vigilantes find his address, subscribe him to 1000s of catalogues, mailing list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weeks, getting 100s of kgs of junk daily, can’t find real mail: “These people are…harassing 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1000" y="1506600"/>
            <a:ext cx="1587240" cy="201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811" t="14763" r="14764" b="14763"/>
          <a:stretch/>
        </p:blipFill>
        <p:spPr>
          <a:xfrm>
            <a:off x="3351240" y="1509840"/>
            <a:ext cx="28875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8320" y="1514520"/>
            <a:ext cx="2086200" cy="20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5F5-8FC3-4C3F-A823-7F5E4602A9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205160"/>
            <a:ext cx="3683160" cy="1016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Feature Inte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002: Byers, Rubin, Kormann spell out how web services would help automate a Ralsky-style attac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ry “request catalogue name address postcod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gram visits each page, submits victim’s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Security Proble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cale of attacks possible when a physical process is exposed to auto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 solution is for vendor to use a “human test”, a problem easy for humans, hard for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little incentive for individual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expect more such problems to emerg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531-0504-4317-8204-74D8071208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are w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the minimum requirement for a Web Service? Is FTP-ing XML across the network an example of Web Service usag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w that web services are rather widely deployed, what sorts of security issues are actually aris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exibility of mechanism is essential for interoperability, but is the enemy of security.  How do we get the balance righ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4BF-6278-405C-B764-58AD7CCA28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around u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WS-* the new CORBA or is it the new ED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do Semantic Web technologies fit in with Web Services security, if at a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WS-Security give SOAP an advantage over competitors like XML-RPC or R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848-CC10-40B6-895B-783113B22F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ahea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sues need to be addressed by further resear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a good motivating scenario you use to direct your resear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features might we expect in an XML firewal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ter Kriens: What lessons are we ignor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AAE-2E9D-4894-BFF7-9BEFF537FB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56:09Z</dcterms:created>
  <dc:creator>Andy Gordon</dc:creator>
  <dc:description/>
  <dc:language>en-US</dc:language>
  <cp:lastModifiedBy>Andy Gordon</cp:lastModifiedBy>
  <dcterms:modified xsi:type="dcterms:W3CDTF">2005-03-16T18:27:12Z</dcterms:modified>
  <cp:revision>233</cp:revision>
  <dc:subject/>
  <dc:title>A Semantics for Web Services Security</dc:title>
</cp:coreProperties>
</file>